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A6C90-40A0-4842-B2CB-4488853B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EAC9C-A8B9-4FCB-ADCF-EE17FDD0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19881-FD07-4D0D-B65D-75000ED30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60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264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60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264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DE3ED-1074-43F9-85E7-40CDFF817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64440" cy="4983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51EB4-A6FF-41E4-8AF0-7020B8FE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799D-2712-44C1-B6A4-C72F7B752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C13B-80A5-4C72-8C1F-A3EBFC35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B395-4D81-4B3E-B376-5280B4AA5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D235-1EA7-4ABD-BB82-3180CBE5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9BA4-5EA9-40DB-8CD8-05747587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4367-8FCE-45F8-82DC-24370865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C3F2-0418-417A-91A8-F1F9ACAAC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60BCA9-1C48-4687-A08E-95C8ED5FAB8F}"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495520"/>
            <a:ext cx="9070920" cy="685656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6000"/>
            </a:br>
            <a:br>
              <a:rPr sz="6000"/>
            </a:br>
            <a:br>
              <a:rPr sz="6000"/>
            </a:br>
            <a:br>
              <a:rPr sz="6000"/>
            </a:br>
            <a:br>
              <a:rPr sz="6000"/>
            </a:br>
            <a:br>
              <a:rPr sz="6000"/>
            </a:br>
            <a:r>
              <a:rPr b="0" lang="fr-FR" sz="6000" spc="-1" strike="noStrike">
                <a:solidFill>
                  <a:srgbClr val="000000"/>
                </a:solidFill>
                <a:latin typeface="Arial"/>
              </a:rPr>
              <a:t>Qu'est-ce que le syndrome d'Asperger ?</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Qualités et atouts des personnes SA</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Franchise et loyauté</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Digne de confianc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Tolérance et très grande sensibilité à l'injustic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Persévérance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Grande mémoir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Vocabulaire développé</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Sens de l'humour</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dc2300"/>
                </a:solidFill>
                <a:latin typeface="Arial"/>
              </a:rPr>
              <a:t>Quelques « aspies » célèbres ?</a:t>
            </a:r>
            <a:endParaRPr b="0" lang="en-US" sz="4400" spc="-1" strike="noStrike">
              <a:solidFill>
                <a:srgbClr val="000000"/>
              </a:solidFill>
              <a:latin typeface="Arial"/>
            </a:endParaRPr>
          </a:p>
        </p:txBody>
      </p:sp>
      <p:sp>
        <p:nvSpPr>
          <p:cNvPr id="61"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a:lnSpc>
                <a:spcPct val="93000"/>
              </a:lnSpc>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 </a:t>
            </a:r>
            <a:r>
              <a:rPr b="0" lang="fr-FR" sz="3200" spc="-1" strike="noStrike">
                <a:solidFill>
                  <a:srgbClr val="000000"/>
                </a:solidFill>
                <a:latin typeface="Arial"/>
              </a:rPr>
              <a:t>Il se dit que Bill Gates, le réalisateur Tim Burton,  l'acteur Keanu Reeves et même Einstein pourraient avoir (ou avoir eu) un syndrome d'Asperger !</a:t>
            </a:r>
            <a:endParaRPr b="0" lang="en-US" sz="3200" spc="-1" strike="noStrike">
              <a:solidFill>
                <a:srgbClr val="000000"/>
              </a:solidFill>
              <a:latin typeface="Arial"/>
            </a:endParaRPr>
          </a:p>
          <a:p>
            <a:pPr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 Hans Asperger lui-même a déclaré un jour : "</a:t>
            </a:r>
            <a:r>
              <a:rPr b="0" i="1" lang="fr-FR" sz="3200" spc="-1" strike="noStrike">
                <a:solidFill>
                  <a:srgbClr val="000000"/>
                </a:solidFill>
                <a:latin typeface="Arial"/>
              </a:rPr>
              <a:t>Il semble que pour être brillant en sciences ou en art, une touche d'autisme soit essentielle</a:t>
            </a:r>
            <a:r>
              <a:rPr b="0" lang="fr-FR"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u="sng">
                <a:solidFill>
                  <a:srgbClr val="ff6633"/>
                </a:solidFill>
                <a:uFillTx/>
                <a:latin typeface="Arial"/>
              </a:rPr>
              <a:t>Une apparence trompeuse</a:t>
            </a:r>
            <a:endParaRPr b="0" lang="en-US" sz="4400" spc="-1" strike="noStrike">
              <a:solidFill>
                <a:srgbClr val="000000"/>
              </a:solidFill>
              <a:latin typeface="Arial"/>
            </a:endParaRPr>
          </a:p>
        </p:txBody>
      </p:sp>
      <p:sp>
        <p:nvSpPr>
          <p:cNvPr id="4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Au premier coup d'oeil, les personnes autistes-Asperger ressemblent à tout le monde, mais leur comportement peut étonner, faire rire, attendrir, agacer ou parfois laisser très démuni.</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Décalées, ces personnes sont, malgré tout, intéressantes et attachantes, si l'on sait comment interpréter leur attitud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360" y="345600"/>
            <a:ext cx="9360000" cy="1171800"/>
          </a:xfrm>
          <a:prstGeom prst="rect">
            <a:avLst/>
          </a:prstGeom>
          <a:noFill/>
          <a:ln w="0">
            <a:noFill/>
          </a:ln>
        </p:spPr>
        <p:txBody>
          <a:bodyPr lIns="0" rIns="0" tIns="352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420e"/>
                </a:solidFill>
                <a:latin typeface="Arial"/>
              </a:rPr>
              <a:t>Caractéristiques du syndrome d'Asperger</a:t>
            </a:r>
            <a:endParaRPr b="0" lang="en-US" sz="4000" spc="-1" strike="noStrike">
              <a:solidFill>
                <a:srgbClr val="00000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 syndrome d'Asperger (SA) est une atteinte neurobiologique d'origine génétique et environnemental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C'est une forme d'autisme sans déficience intellectuell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personnes avec SA sont plus ou moins touchées. Elles ont des caractéristiques semblables mais sont toutes différentes : chacun a sa propre personnalit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Le SA et les compétences sociales</a:t>
            </a: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814040"/>
            <a:ext cx="9070920" cy="4899240"/>
          </a:xfrm>
          <a:prstGeom prst="rect">
            <a:avLst/>
          </a:prstGeom>
          <a:noFill/>
          <a:ln w="0">
            <a:noFill/>
          </a:ln>
        </p:spPr>
        <p:txBody>
          <a:bodyPr lIns="0" rIns="0" tIns="388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4400" spc="-1" strike="noStrike">
                <a:solidFill>
                  <a:srgbClr val="000000"/>
                </a:solidFill>
                <a:latin typeface="Arial"/>
              </a:rPr>
              <a:t>	</a:t>
            </a:r>
            <a:r>
              <a:rPr b="0" lang="fr-FR" sz="3200" spc="-1" strike="noStrike">
                <a:solidFill>
                  <a:srgbClr val="000000"/>
                </a:solidFill>
                <a:latin typeface="Arial"/>
              </a:rPr>
              <a:t>La manière d'être des personnes SA (ayant un syndrome d'Asperger) peut parfois sembler maladroite et gauche, voire décalé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Voici quelques informations pour en comprendre la raison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Difficultés avec le non-dit</a:t>
            </a:r>
            <a:endParaRPr b="0" lang="en-US" sz="4400" spc="-1" strike="noStrike">
              <a:solidFill>
                <a:srgbClr val="000000"/>
              </a:solidFill>
              <a:latin typeface="Arial"/>
            </a:endParaRPr>
          </a:p>
        </p:txBody>
      </p:sp>
      <p:sp>
        <p:nvSpPr>
          <p:cNvPr id="49"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Communiquer, ce n'est pas seulement parler.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gestes, les regards, les mimiques... sont très importants. Les personnes SA ne savent pas forcément les interpréter.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Difficultés avec les codes sociaux</a:t>
            </a:r>
            <a:endParaRPr b="0" lang="en-US" sz="4400" spc="-1" strike="noStrike">
              <a:solidFill>
                <a:srgbClr val="000000"/>
              </a:solidFill>
              <a:latin typeface="Arial"/>
            </a:endParaRPr>
          </a:p>
        </p:txBody>
      </p:sp>
      <p:sp>
        <p:nvSpPr>
          <p:cNvPr id="51"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personnes SA ont du mal à saisir l'importance d'un contexte social et à s'y adapter.</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ur attitude peut être perçue comme déplacée, impolie, insolente... Ce n'est jamais intentionnel.</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Pour éviter les maladresses, certaines personnes SA peuvent se mettre volontairement à l'écart.</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Fatigabilité, troubles de l'attention et de la concentra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600" spc="-1" strike="noStrike">
                <a:solidFill>
                  <a:srgbClr val="000000"/>
                </a:solidFill>
                <a:latin typeface="Arial"/>
              </a:rPr>
              <a:t>Le cerveau des personnes SA fonctionne de manière particulière : il doit traiter les informations qu'il reçoit l'une après l'autre et non pas de façon globale et simultanée comme celui des personnes ordinaires.</a:t>
            </a:r>
            <a:endParaRPr b="0" lang="en-US" sz="36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Hiérarchisation des informa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502920" y="1757160"/>
            <a:ext cx="9070920" cy="501300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 cerveau des personnes SA ne fait pas le tri dans la masse d'informations qu'il reçoit : il est constamment envahi et doit fournir de gros efforts pour sélectionner les informations pertinentes (« carrefour aux heures de pointe »). Il en résulte évidemment de la lenteur et de la fatigu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Répéter les consignes de façon individuelle peut les aider.</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Difficulté à regarder leur interlocuteur en face (la vue et l'ouïe sont sollicitées simultanément).</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Troubles de la perception sensoriell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sens des personnes SA sont souvent exacerbés (c'est parfois le contrair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lumières, les odeurs, le toucher, des bruits particuliers, certains sons, sont particulièrement difficiles à supporter.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Il leur est parfois nécesaire de s'isoler, à l'abri de ces stimuli, pour décompress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14:04:09Z</dcterms:created>
  <dc:creator>Christianne Abiven</dc:creator>
  <dc:description/>
  <dc:language>en-US</dc:language>
  <cp:lastModifiedBy>Gingko Biloba</cp:lastModifiedBy>
  <dcterms:modified xsi:type="dcterms:W3CDTF">2011-10-25T22:17:14Z</dcterms:modified>
  <cp:revision>5</cp:revision>
  <dc:subject/>
  <dc:title>      Qu'est-ce que le syndrome d'Asperger ?</dc:title>
</cp:coreProperties>
</file>