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type.wav" ContentType="audio/x-wav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E8E-748D-47AD-84AA-F3183B31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BD3-8330-4358-B191-B38C972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99F-103D-493D-A698-8DEC918B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FDE-9A06-402F-9836-C5E22E02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930-5E8F-4DD0-8BFD-DE09511D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F21-B3BD-4FAC-9F20-095DD3F5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7A0-0B88-413F-B7C4-261F92B1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A5B-6E40-4283-848D-92ED862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469-1A49-4DD1-AD9A-7821E56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3EB-1CE3-4DA0-9D7F-28E3A41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EF3-D3B0-4E90-BA4D-5CC4D80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6D7-F8D3-4770-A4E9-BC76293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44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3AC-C79E-4B2C-9A1A-DA152C96C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3664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r>
              <a:rPr b="0" i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525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ociation pour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ibilisation à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ection, l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ation et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erche sur l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sme, et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amment le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ndrome d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r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187720" cy="27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7"/>
          <a:stretch/>
        </p:blipFill>
        <p:spPr>
          <a:xfrm>
            <a:off x="0" y="38088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9606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3809880" cy="306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halet de Pont-Scor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ur l’insertion professionnelle des jeunes adultes aut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4197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erre Le Hun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ées septembr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Soutien d’artistes de Cama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23432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ées septembr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cile Lacombe et Jean-Yves Gir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gnie de l’Embarcad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"/>
          <a:stretch/>
        </p:blipFill>
        <p:spPr>
          <a:xfrm>
            <a:off x="380880" y="588960"/>
            <a:ext cx="8458200" cy="5413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14800" y="5638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ées septembre 2005 : l’information dans le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site Internet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ww.asperansa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Le syndrome d'Asperger et l'autisme de haut 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Obtenir un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Que peut-on fai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Témoign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Lien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Événements passés et à 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Qui sommes-n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Comment nous aid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Nouveau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-8" b="-118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émoignages de paren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 de personnes autistes et asperg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 parcours de Maël, âgé de huit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'histoire d'Hu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Dominique, 12 ans, asperger heureux de vi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éo : notre fils, notre batail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Parcours de Léna, 21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Témoignage de Geo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ttre de Cyril aux professeurs de 6ème du collège</a:t>
            </a:r>
            <a:br>
              <a:rPr sz="2800"/>
            </a:b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Questions à propos du comportement d'un enfant autiste de haut niveau en milieu sc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ttre d’Odile et Roland Greuzat au Ministre De La Sa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: Diffus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91320" y="11430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um orientation et handi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il Géné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f des associations de personnes handicap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e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s de crèches, d’écoles mater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9372600" cy="6918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2590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orum sur le sit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 conférence – dé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ée par Pascale Planche, docteur en psychologie du dévelop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Autisme / école ordinaire 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un bénéfice pour tous 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c des témoignages d'ense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di 16 mai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h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é de Méde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e Camille Desmoulins – B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57200"/>
            <a:ext cx="7925040" cy="5562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 dépa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Centre de ressources sur l’Autisme (CRA) à Boh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tégration dans un milieu scolaire ordinaire : groupe de parole tous les mois depuis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005 : créer une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1257120" cy="1806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1257480" cy="1108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1257480" cy="1336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010280" y="1981080"/>
            <a:ext cx="1257480" cy="242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81480" y="472428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819520" y="4484520"/>
            <a:ext cx="1828800" cy="149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Nouvelle plaquette avec : </a:t>
            </a:r>
            <a:r>
              <a:rPr b="1" i="1" lang="en-US" sz="4400" spc="-1" strike="noStrike">
                <a:solidFill>
                  <a:srgbClr val="ff9933"/>
                </a:solidFill>
                <a:latin typeface="Times New Roman"/>
              </a:rPr>
              <a:t>Quelques signes d’al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isme : </a:t>
            </a: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sortir de l’ordi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sortie à la récré des 3 curés animée par des élèves infirm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62520" y="2514600"/>
            <a:ext cx="444492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3124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C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COTO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E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617220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« Le trésor de Cannelle 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’Anne Duv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943440" cy="5965920"/>
          </a:xfrm>
          <a:prstGeom prst="rect">
            <a:avLst/>
          </a:prstGeom>
          <a:ln w="0">
            <a:noFill/>
          </a:ln>
        </p:spPr>
      </p:pic>
      <p:pic>
        <p:nvPicPr>
          <p:cNvPr id="110" name="hugo" descr=""/>
          <p:cNvPicPr/>
          <p:nvPr/>
        </p:nvPicPr>
        <p:blipFill>
          <a:blip r:embed="rId2"/>
          <a:stretch/>
        </p:blipFill>
        <p:spPr>
          <a:xfrm>
            <a:off x="6019920" y="4016520"/>
            <a:ext cx="2666880" cy="25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2590920" y="0"/>
            <a:ext cx="5559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9786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s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son Familiale de Saint-Re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ésentation de l’autisme pour des ATS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gent Technique Spécialisé des Écoles Maternel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collaboration avec Pierre le Hun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teliers pr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paration à la v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6708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mpagnement vers la vie professionnelle de jeunes handicap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114800" cy="1496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1600" y="2514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accueillir en dehors des horaires des centres et des écoles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tructure extra-scol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c Planète Lois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age%20planète%20loisirs" descr=""/>
          <p:cNvPicPr/>
          <p:nvPr/>
        </p:nvPicPr>
        <p:blipFill>
          <a:blip r:embed="rId1"/>
          <a:stretch/>
        </p:blipFill>
        <p:spPr>
          <a:xfrm>
            <a:off x="5746680" y="4038480"/>
            <a:ext cx="2303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ESPOI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ESPERANZ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335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ASPER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s dans les éc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mations p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ents et professionn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d1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000"/>
                </a:solidFill>
                <a:latin typeface="Verdana"/>
              </a:rPr>
              <a:t>LES PERSONNES ATTEINTES D’AUTISME DE HAUT NIVEAU ET LE SYNDROME D’ASP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d1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000"/>
                </a:solidFill>
                <a:latin typeface="Verdana"/>
              </a:rPr>
              <a:t>LA VIE AFFECTIVE ET LA SEXUALITE DES SUJETS ATTEINTS D’AUT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layout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04920"/>
            <a:ext cx="5410080" cy="6172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"/>
            <a:ext cx="5029200" cy="64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Quelques signes d’al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e regarde pas les g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s les y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e répond pas quand on l'app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araît indifférent aux au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 visage est parfois inexpress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'aime pas les chang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eut entrer dans de gran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ères sans raison apparent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 a des crises de rire ou 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me inexpliqu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se cache derrière sa main quand il est angoiss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257480" cy="1806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125712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2133720"/>
            <a:ext cx="2210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e affiche pour alerter et inciter au dépistage préco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i à tous les bénévoles  de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ournées contre l’indiffé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187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Objectif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agner et souten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ettre un dépistage préco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27428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En vue d’une vie autono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2005 : Diffuser l’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Plaquet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Journées d’inform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Site Inter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laquet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élépho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67120" cy="272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urnées de l’autism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 et 24 septembr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é de Bretagne Occident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36" b="0"/>
          <a:stretch/>
        </p:blipFill>
        <p:spPr>
          <a:xfrm>
            <a:off x="4800600" y="1676520"/>
            <a:ext cx="3711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nférence d’Hubert R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moignages d’adultes Asperg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Geor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Li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4800" y="3386160"/>
            <a:ext cx="4191120" cy="278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97" b="-35"/>
          <a:stretch/>
        </p:blipFill>
        <p:spPr>
          <a:xfrm>
            <a:off x="45720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4:12:35Z</dcterms:created>
  <dc:creator>Jean</dc:creator>
  <dc:description/>
  <dc:language>en-US</dc:language>
  <cp:lastModifiedBy>Gingko Biloba</cp:lastModifiedBy>
  <dcterms:modified xsi:type="dcterms:W3CDTF">2007-06-01T14:32:27Z</dcterms:modified>
  <cp:revision>57</cp:revision>
  <dc:subject/>
  <dc:title>ASPERANSA </dc:title>
</cp:coreProperties>
</file>